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18F51-E09E-4CB2-B07F-8B1736CC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65A85-5B83-432A-9C77-96212587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98E2E-C773-4F45-A3D5-F67EC3CE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50FC2-144E-4FCE-9434-D4653F5F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68FD6-A9D3-4D3E-A4E0-209D6604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3A9F0-F022-4BC2-AA11-380D49EC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495B6-AC25-41FC-8DFB-210D73BB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65DCB-3659-488B-B1D8-50B94D36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75811-8809-4D3E-A76F-01E24CCC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82FA9-CAF2-468D-AD8B-56689055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EBBF4-3178-48D7-BA56-82B76FF5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158F7-D5D0-4D37-B8FA-F2EC970E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7E2A-E68F-4A82-A28A-5C88D1F9EFC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90720" y="19810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MIS Interface with Fabtro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048120"/>
            <a:ext cx="6019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rank Wa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971800" y="1143000"/>
          <a:ext cx="501480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143000"/>
                    <a:ext cx="50148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1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6483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tem_property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arries a description and a proerty 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276720" y="1371600"/>
          <a:ext cx="5333760" cy="47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371600"/>
                    <a:ext cx="533376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2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3434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Structural_frame_item_relationshi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carries a description and a lab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553080" y="4876920"/>
            <a:ext cx="12956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1828800"/>
          <a:ext cx="7694640" cy="38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28800"/>
                    <a:ext cx="76946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572000" y="152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I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Mar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N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1905120"/>
            <a:ext cx="533520" cy="10666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2133720"/>
            <a:ext cx="380880" cy="1523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3733560"/>
            <a:ext cx="2438280" cy="152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572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Part Identifi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49400" y="1373040"/>
          <a:ext cx="8769240" cy="44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400" y="1373040"/>
                    <a:ext cx="876924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5720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ction Profil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380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flavor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895480" y="1066680"/>
            <a:ext cx="1981440" cy="53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219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item_proper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2057400"/>
            <a:ext cx="762120" cy="25146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3:16:57Z</dcterms:created>
  <dc:creator>Eastman</dc:creator>
  <dc:description/>
  <dc:language>en-US</dc:language>
  <cp:lastModifiedBy>fwang</cp:lastModifiedBy>
  <dcterms:modified xsi:type="dcterms:W3CDTF">2002-05-06T15:46:04Z</dcterms:modified>
  <cp:revision>2</cp:revision>
  <dc:subject/>
  <dc:title>No Slide Title</dc:title>
</cp:coreProperties>
</file>